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EB6-037E-42B3-B889-B474BB14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6F1-1160-4066-89B7-37C54B07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30E-DE5D-4A92-9E55-BAE6EE00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28E-E212-42B9-9E89-BE2CC359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9F0-3FE2-4C5C-91D0-49664BDA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332-7A90-4881-95C6-88991A65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4A5-0290-49D1-91FD-1FCD3831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D4C-0093-4931-8B4C-991CE26E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9A4-8FA6-4673-A995-54217FE0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01B-EDA7-4456-80F5-CA41E59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578-2570-4BC0-A713-A1386A66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BAF-14D7-41B7-A184-1B25DF28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1F01-5D40-441E-8D8E-8044394E94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96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现在时表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通常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习惯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snow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tch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21240" y="4365720"/>
            <a:ext cx="6861240" cy="1073160"/>
            <a:chOff x="921240" y="4365720"/>
            <a:chExt cx="6861240" cy="1073160"/>
          </a:xfrm>
        </p:grpSpPr>
        <p:sp>
          <p:nvSpPr>
            <p:cNvPr id="43" name=""/>
            <p:cNvSpPr/>
            <p:nvPr/>
          </p:nvSpPr>
          <p:spPr>
            <a:xfrm>
              <a:off x="4211640" y="4365720"/>
              <a:ext cx="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08880" y="4857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现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124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过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1396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将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71280" y="4798800"/>
              <a:ext cx="6551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0240" y="476280"/>
            <a:ext cx="71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现在进行时中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is        +    - 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o-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ve-l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重读闭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it-sitting      drop-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e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ie-dying lie-l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1752480"/>
            <a:ext cx="649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is writing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nother book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不表示说话的时候她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拿着笔坐在书桌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90720"/>
            <a:ext cx="8542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Dian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s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her hair every other day or 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Kathy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in the front row during class,but today s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last 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0" y="4292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hes, sits, is si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838080"/>
            <a:ext cx="7788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ock,you,alway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____ the door to your apartment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寓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when you le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I wrote to my friend last week.She hasn’t answered my letter yet.I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it,st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 for a rep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440" y="4941720"/>
            <a:ext cx="53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 you always loc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still 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" y="1989000"/>
            <a:ext cx="91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Every morning,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in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droom window and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k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me 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640" y="407664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hines,w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76500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A:Look!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: It’s beautiful! This is the first time I’ve ever seen snow.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, not, ofte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 in my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160" y="4365720"/>
            <a:ext cx="81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s snowing;does not often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0464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7. Mike is a student,but 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go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to school right now because it’s summer.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atten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college from September to May every year,but in the summers 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have,usuall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a job at the post office.In fact,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ork)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re this sum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2320" y="5084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esn’t go;atte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usually has;i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1341360"/>
            <a:ext cx="772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Please be quiet.I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to concent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After three days of rain,I’m glad that 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again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9960" y="426708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trying;is sh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4920" y="1143000"/>
            <a:ext cx="834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Is this raincoat y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No,mine ___ there behind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is hanging        B.has 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hangs               D.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06864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88240" y="41497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进行时强调此刻正在进行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现在时表示不确定时间经常、反复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50760" y="1467000"/>
            <a:ext cx="765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Can I help you, s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Yes, I bought this radio here yesterday, but it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id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wo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ca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oes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4249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0440" y="2166840"/>
            <a:ext cx="878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于对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客观事实的普遍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陈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consists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f hydrogen and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st animals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k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world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roun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26828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Can I join the club, D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You can when you ___ a bit ol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t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are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will have g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3789360"/>
            <a:ext cx="165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26828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cousin, Jenny, ___ in New York till next Satu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st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141720"/>
            <a:ext cx="316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765000"/>
            <a:ext cx="700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when she 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but I’ll tell you as soon as she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860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59560" y="692280"/>
            <a:ext cx="650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ook! ________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comes the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is the bu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i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916280"/>
            <a:ext cx="7192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放在句子开头，句子主谓要倒装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主语为代词，主谓不倒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导的句子中，常用一般现在时代替现在进行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97120" y="1405080"/>
            <a:ext cx="67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某些动词的一般现在时表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说话时正在存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一种情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a dollar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don’t recogniz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hat 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ed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pen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注：这些动词不能用于进行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的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am;is ;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have,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人称单数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-(e)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143000"/>
            <a:ext cx="670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肯定句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否定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watch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疑问句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1981080"/>
            <a:ext cx="680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n’t 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90792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现在进行时表示一项活动在说话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较长时间）正在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are talking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2635560"/>
            <a:ext cx="5475240" cy="1822320"/>
            <a:chOff x="1476360" y="2635560"/>
            <a:chExt cx="5475240" cy="1822320"/>
          </a:xfrm>
        </p:grpSpPr>
        <p:sp>
          <p:nvSpPr>
            <p:cNvPr id="55" name=""/>
            <p:cNvSpPr/>
            <p:nvPr/>
          </p:nvSpPr>
          <p:spPr>
            <a:xfrm>
              <a:off x="4140360" y="3429000"/>
              <a:ext cx="0" cy="4017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8000" y="342900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35772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960" y="2708280"/>
              <a:ext cx="60696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4640" y="2635560"/>
              <a:ext cx="6069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fini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9960" y="2707560"/>
              <a:ext cx="6069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40000" y="4076640"/>
              <a:ext cx="3657600" cy="381240"/>
            </a:xfrm>
            <a:custGeom>
              <a:avLst/>
              <a:gdLst/>
              <a:ahLst/>
              <a:rect l="l" t="t" r="r" b="b"/>
              <a:pathLst>
                <a:path w="2592" h="488">
                  <a:moveTo>
                    <a:pt x="0" y="48"/>
                  </a:moveTo>
                  <a:cubicBezTo>
                    <a:pt x="432" y="268"/>
                    <a:pt x="864" y="488"/>
                    <a:pt x="1296" y="480"/>
                  </a:cubicBezTo>
                  <a:cubicBezTo>
                    <a:pt x="1728" y="472"/>
                    <a:pt x="2376" y="80"/>
                    <a:pt x="2592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860640"/>
              <a:ext cx="52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8880" y="2349360"/>
            <a:ext cx="61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进行时的将来用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hen are you leav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=When will you lea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907920"/>
            <a:ext cx="777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are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 not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John and Mary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00:33:55Z</dcterms:created>
  <dc:creator>zhao jinliang</dc:creator>
  <dc:description/>
  <dc:language>en-US</dc:language>
  <cp:lastModifiedBy>Legend User</cp:lastModifiedBy>
  <dcterms:modified xsi:type="dcterms:W3CDTF">2002-11-24T11:49:32Z</dcterms:modified>
  <cp:revision>18</cp:revision>
  <dc:subject/>
  <dc:title>PowerPoint 演示文稿</dc:title>
</cp:coreProperties>
</file>